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847-3BDD-402F-90B3-D48A5591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D43-1ABF-4F1B-BF25-43E948A9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7F1-2840-464D-AD6D-0B8ECB56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D88-6AD7-4321-8FA1-1B09B99B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3543-74ED-4FD6-9DE4-08B2FC23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889C-9918-4772-B064-199F409A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951B-4FE2-4C0D-8672-89FF3687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CC07-DCC3-4F8A-AE01-B83426A5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1CF0-AE19-4B56-9D5A-545FCDE3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9079-F0AD-40AD-A1BF-8A154662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9F70-CE08-4408-B699-F41D5E2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D47-8C88-4298-83B8-12D911E4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5D56-01B5-436F-B448-3EAD7A99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5AB8-20C5-4BCD-804A-9AD49AB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520B-3033-4E24-A9B2-2F0F1FCF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445B-7E2F-4C2F-82C1-8A1886E3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806A-352B-4E4D-9446-4731ED95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233-47E4-4D6A-B8F7-D3DD8EC8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AB9-7109-425E-8A7A-4C0A8A99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147-AFC6-425D-9476-66136D6E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F3C-2C96-40A0-A348-3680B15B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887-B0A3-4878-A43E-B744409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BF6-6603-4BDC-9AA4-C4560AC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399-DF2F-4117-8982-FE78DF6C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5E30-3FAE-4519-A455-0773754BC7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AFD9-5BCE-4F76-BD6C-B03E7D5218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bbd71"/>
                </a:solidFill>
                <a:latin typeface="Arial"/>
              </a:rPr>
              <a:t>Jill Luckey</a:t>
            </a:r>
            <a:br>
              <a:rPr sz="4800"/>
            </a:br>
            <a:r>
              <a:rPr b="1" i="1" lang="en-US" sz="4800" spc="-1" strike="noStrike">
                <a:solidFill>
                  <a:srgbClr val="dbbd71"/>
                </a:solidFill>
                <a:latin typeface="Arial"/>
              </a:rPr>
              <a:t>Beaufort Academ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28600"/>
            <a:ext cx="5562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ravity, Explained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More Math Proof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Using a formula for b: (the question was: How long does it take the object to reach the top of its path?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you want the v</a:t>
            </a:r>
            <a:r>
              <a:rPr b="1" i="1" lang="en-US" sz="2800" spc="-1" strike="noStrike" baseline="-25000">
                <a:solidFill>
                  <a:srgbClr val="dbbd71"/>
                </a:solidFill>
                <a:latin typeface="Tahoma"/>
              </a:rPr>
              <a:t>f </a:t>
            </a: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 to be 0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so use v</a:t>
            </a:r>
            <a:r>
              <a:rPr b="1" i="1" lang="en-US" sz="2800" spc="-1" strike="noStrike" baseline="-25000">
                <a:solidFill>
                  <a:srgbClr val="dbbd71"/>
                </a:solidFill>
                <a:latin typeface="Tahoma"/>
              </a:rPr>
              <a:t>f</a:t>
            </a: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 = v</a:t>
            </a:r>
            <a:r>
              <a:rPr b="1" i="1" lang="en-US" sz="2800" spc="-1" strike="noStrike" baseline="-25000">
                <a:solidFill>
                  <a:srgbClr val="dbbd71"/>
                </a:solidFill>
                <a:latin typeface="Tahoma"/>
              </a:rPr>
              <a:t>o</a:t>
            </a: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 + at          (again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Therefore you ha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0 = 90 + (-10)(t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Tahoma"/>
              </a:rPr>
              <a:t>-90 = -10 t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t = 9s</a:t>
            </a:r>
            <a:br>
              <a:rPr sz="2800"/>
            </a:br>
            <a:r>
              <a:rPr b="1" i="1" lang="en-US" sz="1400" spc="-1" strike="noStrike">
                <a:solidFill>
                  <a:srgbClr val="dbbd71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dbbd71"/>
                </a:solidFill>
                <a:latin typeface="Tahoma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And mor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Using a formula for c:   (the question was: How fast is the object going after 12 s?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Tahoma"/>
              </a:rPr>
              <a:t>f 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= 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Tahoma"/>
              </a:rPr>
              <a:t>o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 + at;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Tahoma"/>
              </a:rPr>
              <a:t>f 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= 90 + (-10)(12)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Tahoma"/>
              </a:rPr>
              <a:t>f 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= 90 –120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Tahoma"/>
              </a:rPr>
              <a:t>f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 = -30 m/s</a:t>
            </a: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	</a:t>
            </a:r>
            <a:br>
              <a:rPr sz="3200"/>
            </a:br>
            <a:r>
              <a:rPr b="1" i="1" lang="en-US" sz="3200" spc="-1" strike="noStrike">
                <a:solidFill>
                  <a:srgbClr val="dbbd7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e:  a negative velocity indicates that the object is returning towards the earth, or fal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1131840"/>
            <a:ext cx="6477120" cy="5516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228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an object is thrown straight up at 70 m/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m/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6765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fast is the object going after 1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676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6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2133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long does it take for the object to reach the top of it’s path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7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8195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what point along the path is the object experiencing ag of -9.8 m/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40384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At every point from being fired, going up, at the very top, and at every point on the way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8195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instantaneous velocity at the top of the path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44956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velocity at the moment the object returns to the “firing height”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9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7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CCELERATION &amp; VELOCITY ARE NOT ALWAYS IN THE SAME DIRECTION!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way UP the velocity vector is pointing up but the acceleration (gravity) is pointing d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way DOWN, they are in the same direc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velocity at point A is 45 m/s, what is the velocity at point C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733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about time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ball is in the air for a total 8.2 secon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long does it take for the ball to get to point B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long to get from point B to C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657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Seems Like a Simple Concept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ut it’s worth taking the time to really understand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rst, let’s eliminate friction (no air resistance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y doing so, our objects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ontinually accelerat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as long as they are falling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reality (with air resistance) there is such a thing as “terminal velocity”, which is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he fastest speed an object reaches as it’s fallin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based on the object’s shape and size (ability to overcome the friction of air molecules).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An elephant has a greater terminal velocity than a spider, but the spider reaches terminal velocity sooner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37160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- are moving towards the earth</a:t>
            </a:r>
            <a:br>
              <a:rPr sz="3600"/>
            </a:b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- are subject to the acceleration of gravity, which is  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–9.81 m/s</a:t>
            </a:r>
            <a:r>
              <a:rPr b="1" i="1" lang="en-US" sz="3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-  formula:  </a:t>
            </a:r>
            <a:r>
              <a:rPr b="1" i="1" lang="en-US" sz="3600" spc="-1" strike="noStrike">
                <a:solidFill>
                  <a:srgbClr val="ffff00"/>
                </a:solidFill>
                <a:latin typeface="Albertus Extra Bold"/>
              </a:rPr>
              <a:t>s = ½ at</a:t>
            </a:r>
            <a:r>
              <a:rPr b="1" i="1" lang="en-US" sz="3600" spc="-1" strike="noStrike" baseline="30000">
                <a:solidFill>
                  <a:srgbClr val="ffff00"/>
                </a:solidFill>
                <a:latin typeface="Albertus Extra Bol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 where s = displacement, a = the acceleration of gravity, and t =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6000" y="533520"/>
            <a:ext cx="521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Tahoma"/>
              </a:rPr>
              <a:t>Objects In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dbbd71"/>
                </a:solidFill>
                <a:latin typeface="Tahoma"/>
              </a:rPr>
              <a:t>Freef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Objects Thrown Upward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523880"/>
            <a:ext cx="441936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bbd7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draw an inverted narrow V</a:t>
            </a:r>
            <a:br>
              <a:rPr sz="24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- let’s agree to this “convention”:  we will mark the “firing velocity” on the bottom left;</a:t>
            </a:r>
            <a:br>
              <a:rPr sz="24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- if the object returns to earth at the same height, then the “return velocity” is the same but with a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egative </a:t>
            </a: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value</a:t>
            </a:r>
            <a:br>
              <a:rPr sz="24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- at all times during the object’s motion (all times!) the object’s a is –9.81 m/s</a:t>
            </a:r>
            <a:r>
              <a:rPr b="1" i="1" lang="en-US" sz="2400" spc="-1" strike="noStrike" baseline="30000">
                <a:solidFill>
                  <a:srgbClr val="dbbd71"/>
                </a:solidFill>
                <a:latin typeface="Arial"/>
              </a:rPr>
              <a:t>2</a:t>
            </a:r>
            <a:br>
              <a:rPr sz="4000"/>
            </a:b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41760" y="52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4114800" cy="5181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2320" y="3200400"/>
            <a:ext cx="4190760" cy="2209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5257800"/>
            <a:ext cx="1600200" cy="457200"/>
          </a:xfrm>
          <a:prstGeom prst="ellipse">
            <a:avLst/>
          </a:prstGeom>
          <a:gradFill rotWithShape="0">
            <a:gsLst>
              <a:gs pos="0">
                <a:srgbClr val="ffff00">
                  <a:alpha val="56078"/>
                </a:srgbClr>
              </a:gs>
              <a:gs pos="50000">
                <a:srgbClr val="996600">
                  <a:alpha val="56078"/>
                </a:srgbClr>
              </a:gs>
              <a:gs pos="100000">
                <a:srgbClr val="ffff00">
                  <a:alpha val="5607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181480"/>
            <a:ext cx="1600200" cy="457200"/>
          </a:xfrm>
          <a:prstGeom prst="ellipse">
            <a:avLst/>
          </a:prstGeom>
          <a:gradFill rotWithShape="0">
            <a:gsLst>
              <a:gs pos="0">
                <a:srgbClr val="ffff00">
                  <a:alpha val="56078"/>
                </a:srgbClr>
              </a:gs>
              <a:gs pos="50000">
                <a:srgbClr val="996600">
                  <a:alpha val="56078"/>
                </a:srgbClr>
              </a:gs>
              <a:gs pos="100000">
                <a:srgbClr val="ffff00">
                  <a:alpha val="5607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op of the Pat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410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- at the top of the path, the object’s “v” is instantaneously 0 m/s</a:t>
            </a:r>
            <a:br>
              <a:rPr sz="2800"/>
            </a:b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- the top of the path marks the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alf-way point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, time-wise</a:t>
            </a:r>
            <a:br>
              <a:rPr sz="2800"/>
            </a:b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e “a” of the object at the top of the path is still –9.81 m/s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419720" y="2133720"/>
            <a:ext cx="2209680" cy="152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066680"/>
            <a:ext cx="419112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For our purposes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let’s round a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to 10 m/s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Let’s say an object is fired straight up at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90 m/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a. In the first second, what is it’s “v”?  </a:t>
            </a:r>
            <a:br>
              <a:rPr sz="2800"/>
            </a:b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(Subtract 10 from 90 and after 1 s you would expect the object’s v to be 80 m/s) (Roughly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b. How much time does it take for the object to reach the top of its path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" y="1523880"/>
            <a:ext cx="3276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it starts at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90 m/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then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1 s it’s going 80 m/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2s it’s going 7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3 s it’s going 6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4 s it’s going 5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5 s it’s going 4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6 s it’s going 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7 s it’s going 2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8 s it’s going 1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9 s it’s going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. What is the object’s v after 12 s?</a:t>
            </a:r>
            <a:br>
              <a:rPr sz="4000"/>
            </a:b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t 9s it was 0 m/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fter 3 more s you must subtra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3(-10 m/s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) which is –30 m/s.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Let’s Prove our Concepts with a Mathematical Formul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00200"/>
            <a:ext cx="85345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Using a formula for a:  (the question was…how fast is the object going after 1 s?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 = v</a:t>
            </a:r>
            <a:r>
              <a:rPr b="1" i="1" lang="en-US" sz="3200" spc="-1" strike="noStrike" baseline="-25000">
                <a:solidFill>
                  <a:srgbClr val="dbbd71"/>
                </a:solidFill>
                <a:latin typeface="Arial"/>
              </a:rPr>
              <a:t>o</a:t>
            </a: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 + at;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v = 90 + (-10)(1);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v = 90 –10;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 = 80 m/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6:07:00Z</dcterms:created>
  <dc:creator>andreskim</dc:creator>
  <dc:description/>
  <dc:language>en-US</dc:language>
  <cp:lastModifiedBy>jluckey</cp:lastModifiedBy>
  <dcterms:modified xsi:type="dcterms:W3CDTF">2009-10-01T16:38:50Z</dcterms:modified>
  <cp:revision>48</cp:revision>
  <dc:subject/>
  <dc:title>Gravity, Explained First, let’s eliminate friction (no air resistance).  By doing so, our objects continually accelerate as long as they are falling.  In reality (with air resistance) there is such a thing as “terminal velocity”, which is the fastest speed an object reaches as it’s falling, based on the object’s shape and size (ability to overcome the friction of air molecules).       </dc:title>
</cp:coreProperties>
</file>